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1605-2AB6-437C-A097-369E6A7B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AD9-4E4A-48DC-B436-E86B7284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90E7-5431-417B-97F7-7E16BE48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D40-E283-420F-ACD0-BA25B39F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E7F4-BC6A-47BB-B123-83507399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3D08-E5C9-4C9C-ADAD-5A31F920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CC6F-9362-4B36-9110-6F896C2A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7C9-73A4-41C1-BE04-09C298F5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BF5D-7198-47A6-BBFE-B27625EC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8CB-EC80-4DF2-B8F0-3FDE3596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E99E-3D3B-4293-9719-0272D4F6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519A-B5BA-4A6B-AA42-71EFC865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038B-E2FC-4D12-BC61-BDC04FE7F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ff6600"/>
            </a:gs>
            <a:gs pos="100000">
              <a:srgbClr val="80008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448800">
            <a:off x="1258920" y="549360"/>
            <a:ext cx="76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phie Balfou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 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rade six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852640"/>
            <a:ext cx="33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48360" y="3068640"/>
            <a:ext cx="1820880" cy="182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4630680"/>
            <a:ext cx="3457440" cy="1944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3640" y="4076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y mentor. Miss charlat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067280" y="0"/>
            <a:ext cx="5076720" cy="3819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048200" y="3038400"/>
            <a:ext cx="5095800" cy="3819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0" y="0"/>
            <a:ext cx="4229280" cy="16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iend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492360" y="191628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8000" y="256536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shl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276720" y="4869000"/>
            <a:ext cx="9349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5589720"/>
            <a:ext cx="4248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530064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Kina and Er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333360"/>
            <a:ext cx="4695840" cy="15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Kahootz Amish"/>
              </a:rPr>
              <a:t>Family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Kahootz Amish"/>
              <a:ea typeface="Kahootz Amish"/>
            </a:endParaRPr>
          </a:p>
        </p:txBody>
      </p:sp>
      <p:sp>
        <p:nvSpPr>
          <p:cNvPr id="56" name=""/>
          <p:cNvSpPr/>
          <p:nvPr/>
        </p:nvSpPr>
        <p:spPr>
          <a:xfrm>
            <a:off x="3924360" y="350028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my family I have Four sisters there names are Emily she is 14,Georgia is 17, Maddie is 19 and jess is 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22:31:45Z</dcterms:created>
  <dc:creator>Admin</dc:creator>
  <dc:description/>
  <dc:language>en-US</dc:language>
  <cp:lastModifiedBy>Admin</cp:lastModifiedBy>
  <dcterms:modified xsi:type="dcterms:W3CDTF">2009-04-27T23:49:57Z</dcterms:modified>
  <cp:revision>5</cp:revision>
  <dc:subject/>
  <dc:title>Slide 1</dc:title>
</cp:coreProperties>
</file>